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chimes.wav" ContentType="audio/x-wav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27.jpeg" ContentType="image/jpeg"/>
  <Override PartName="/ppt/media/image10.png" ContentType="image/png"/>
  <Override PartName="/ppt/media/image29.gif" ContentType="image/gif"/>
  <Override PartName="/ppt/media/image30.jpeg" ContentType="image/jpeg"/>
  <Override PartName="/ppt/media/image15.png" ContentType="image/png"/>
  <Override PartName="/ppt/media/image24.jpeg" ContentType="image/jpeg"/>
  <Override PartName="/ppt/media/image9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12.wmf" ContentType="image/x-wmf"/>
  <Override PartName="/ppt/media/image8.png" ContentType="image/png"/>
  <Override PartName="/ppt/media/image16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media/image18.gif" ContentType="image/gif"/>
  <Override PartName="/ppt/media/image14.png" ContentType="image/png"/>
  <Override PartName="/ppt/media/image17.png" ContentType="image/pn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02B1-7652-488F-90C3-9D34F6EB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968-64B2-425D-895A-F3E7D1C0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5095B-82F2-4725-9D30-F1FBFF16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33EAB-4D90-4CD2-B4AB-61DE9A33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28293-0FFC-4507-931D-1AFFF3CF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EB7F4-1BC1-45DD-AB1F-822EB327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0821E-4359-4879-9762-50BE46C5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8BCD2-46D2-4B07-B130-3BCAC582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189EF-13A2-441D-876A-186DC484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39AC7-B46D-4C14-8DAC-8AF28A22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ADEC3-54BD-4405-9A2D-DBB0712C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94E6C-F723-43ED-93A2-42CA5AAB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EDA-915A-4A9B-B0D0-65735BE3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FFC12-7C7C-429A-8204-8DF79DF8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17D28-8F13-45DB-A319-C2CA9EDC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1FBD5-420B-4F1B-ADC2-608EB7E4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FA41A-F690-4CF6-ACEA-5538A349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F531E-F190-4966-9477-F1C9E108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AE7F6-557F-41B7-8EB8-221C4EAF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42687-53E7-4BCB-83BC-9907780A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3E837-5439-466D-A797-57164F2E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B8D9A-985A-4E01-AAA4-F280339F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AF13C-9082-4BC7-ABC9-23BA039C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92E6-6B9F-467F-9CFA-E0FFB6EE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C81EC-9851-4362-94CF-00369D6A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C2AE6-1C3E-4265-B331-6D415DBE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40ACE-F905-4AED-9BFD-F8105DCC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C6416-2124-4D76-874E-B91CB229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C0C09-B5BB-4CC7-AAB4-CCB6E5D8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AAFD0-B580-42C6-B689-FBE68FBF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54799-1B1F-432C-933A-29D3CA66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D1B0C-F56B-4D2D-B438-6208F977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E0B8C-9360-41AF-97F2-419413EC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6FD2D-351F-46AE-9C34-B844C781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47CC-D689-494D-A1C8-0D6114C0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7FF58-8118-45E3-A35C-A8B3976E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25B33-0443-4418-86EB-4B563546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DB09C-B630-4D9C-96D3-87F22FCE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EED0-933F-4E93-95AC-A3D70E59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8C1E-C3FB-4135-B392-4565CDC0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D9B8-1DC4-40D7-8B6C-5E15B389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8F5C-D3A0-4235-B208-42AF7458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2C8C-C546-4C00-9759-2A3A6D15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858F-6490-4F64-96D8-C8D4AA27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384D-53A4-4BC4-A881-87BE4267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E56E-FAF5-4F0A-A964-B2D74C5A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4793-5DA4-43E9-9BA9-C2B6D7E3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A067-7865-42BE-926F-58DA8C62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3628-9DD9-44B8-8EDF-562CC8BB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FF11-0C7F-4761-BD0A-E9E96678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66C2A-0A7C-4D81-85C0-B1AE6B00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B8BF0-E270-4F7F-9EEA-2F6585C8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DA1A9-349A-468F-8429-5C3ECDCF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6F23A-9BBB-49CC-B5D8-7679CA28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9041D-2F15-4238-A07E-24AF6C69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680-F7DE-4EE8-B594-6EF1878B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2F3F6-0360-4D9B-B5DA-920537DC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F53E2-4065-4FEC-98FD-FE6DA257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81B82-ECD6-45A2-8B68-802190F3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44A9D-2178-40B5-A55B-4976C834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6EFC9-9264-4938-893D-3DFFA901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F8451-4699-4A3F-8972-DA6ACD4F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2E765-E674-4E7F-A458-A4BD6733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F7E2A-DA46-4002-9A02-23F0F089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C85E7-3C8B-48D5-B967-E8407F03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5E5F9-D49E-409F-A987-0CB42A19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B63E-14D4-4504-A9D5-9C8ADAA0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3DFFF-1A38-4205-9D44-28FA7EAB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7B705-312D-42C4-8BBA-38E76F90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C8CDC-7573-411E-BEA9-D7EED48A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77072-32D0-4542-BCF5-4A73DCCF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A96D0-5B2A-4CC0-8A85-B1A0C296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67711-7C89-428D-818A-A5845811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463B2-730D-45DC-BF9A-19708A54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201EE-DFFC-43FE-AC8F-04C9BE66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35CE2-CA50-4284-8148-3BBCA6D7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22ADD-A861-4415-893F-38EBEB5A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1D4D-CE6A-4F92-A600-22E55058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9661D-894C-4B8C-96D6-82717D3F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F4143-97BE-4BC0-8972-25E430F9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66026-A8BA-47F0-B3C9-192F0FFE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C3723-9B6E-4898-BD0A-9C6A8B55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9789D-C5E5-4F2E-80A3-52CA16CD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D2579-8E50-4AF0-A39F-C3528176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7697C-96C3-479B-B3CE-DB8DB30A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4242A-45E3-4C10-A1EC-D7921856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4ED76-3526-4098-A67B-1177E3CF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4CCA2-249E-4EB6-9FE7-379BBBA2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D17-654A-4264-9402-2D94B328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15132-E013-4CD4-B207-FDCAE84B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3C89A-4B57-483B-A4B4-181B0740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40F21-8923-4EA2-8453-794191ED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6FE06-6A97-4F65-A1BD-99B4B69C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6F420-D742-46A3-8511-BFCF374D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E733F-F8A4-44C0-8DD4-7FB28CB2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5A257-8FA3-4BE7-B306-02993C8C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76B9D-A546-4E0E-ADCC-873D4D11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EE455-85CA-4E37-8390-75FB2EB0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94E39-BEB2-4517-BB20-31D22C83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1BE-E3A4-418E-AF5D-A48ACFA4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2A467-5738-4519-BCCE-B98816DF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9AAC8-E083-4CDE-8C7E-93C44174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7FFF8-9A3A-489D-A364-62C99E3A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8884B-FFBC-4DBE-A75C-FC07090B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06C64-6D10-4C3A-8F6A-426D5C36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C39E9-C036-41D9-A381-B1B9E74D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E9D75-1456-4186-8522-0AC056E2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DF3E3-79E9-4E13-BCFA-D294EB43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32784-9390-4079-A9C0-78FA5F14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4B91B-AAA6-434D-B972-B009BC88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2C9B-7926-4598-9E8A-55A1F7F6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25869-D793-4270-9123-EC158684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3857E-5855-4CF2-B781-F3F1DA6B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69116-E654-4F7B-AB3C-810F599F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F6B74-FB15-4EFC-8AD9-E44B9405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C0E18-0C5B-4FBD-84BA-80C8BA28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5C2C6-FC3D-48E8-85A5-BE55CFA7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9E11A-C5A8-4FC6-BE9C-A6BBBFD8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8BB58-56ED-4141-BE8E-08296FF4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805F4-D0E6-44BB-97DD-239CE025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60688-2E2A-4511-82AF-4893A976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D34-1557-46B3-85ED-9B07240C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0D25E-0EAE-499E-9355-31D62500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A7DF2-E1BC-41F6-83F6-96DF67A9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0AA0B-7726-460F-9138-9EC230EC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8300F-731A-458F-B0A2-91E72748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FA86F-7955-480B-9080-808F6081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3CF6A-D296-42ED-9E66-8A582F69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9FD08-5FE0-4859-97FE-FE1A64A6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12CE5-894C-4618-93A6-209EFE0B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8C54C-1FF1-4FF3-9104-5870896E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4D002-A140-43AC-8789-233E14C5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23AC-2BEE-4957-8B94-DDB9CA9AD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220C-4056-48C7-AD4B-9BFEC299C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1654-9CB3-4298-B13C-527673068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0250-94AE-4C1A-9600-6919FF11A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76CA-CE1A-48B3-9405-924BD1D71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8FC0-63C2-4C42-BE9C-FFDE64ED3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96A9-C707-4477-8844-6F0194CEA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90AA-DCD9-4762-933C-538A7B670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AE49-F96E-452D-A492-1804F9AF1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224A-936D-4213-9E4B-6C169D1E0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16EC-DA8B-4D94-9123-6FB3D3216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" descr="200861795854662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5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1835280" y="1341360"/>
            <a:ext cx="597672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韵母：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o e i u 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声母：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y 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  p  m  f  d  t  n  l  g  k  h  j  q  x  z  c  s  r  zh  ch  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：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yi  wu  yu zi ci si zhi chi shi 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7" descr="dyd"/>
          <p:cNvPicPr/>
          <p:nvPr/>
        </p:nvPicPr>
        <p:blipFill>
          <a:blip r:embed="rId3"/>
          <a:stretch/>
        </p:blipFill>
        <p:spPr>
          <a:xfrm>
            <a:off x="611280" y="404640"/>
            <a:ext cx="2305080" cy="863640"/>
          </a:xfrm>
          <a:prstGeom prst="rect">
            <a:avLst/>
          </a:prstGeom>
          <a:ln w="0">
            <a:noFill/>
          </a:ln>
        </p:spPr>
      </p:pic>
      <p:sp>
        <p:nvSpPr>
          <p:cNvPr id="457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BACB-A00F-4CC4-9B69-ED789BB1F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2299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2007012723312755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3"/>
          <p:cNvSpPr/>
          <p:nvPr/>
        </p:nvSpPr>
        <p:spPr>
          <a:xfrm>
            <a:off x="971640" y="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标调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1187280" y="907920"/>
            <a:ext cx="540072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ɑ o e,i u 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标调时按顺序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在，不放过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没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上标调就摘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并排标后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638A-39D1-432E-BAF4-70D410A92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1" name="Group 3"/>
          <p:cNvGrpSpPr/>
          <p:nvPr/>
        </p:nvGrpSpPr>
        <p:grpSpPr>
          <a:xfrm>
            <a:off x="469080" y="7560"/>
            <a:ext cx="8424360" cy="6800400"/>
            <a:chOff x="469080" y="7560"/>
            <a:chExt cx="8424360" cy="6800400"/>
          </a:xfrm>
        </p:grpSpPr>
        <p:sp>
          <p:nvSpPr>
            <p:cNvPr id="532" name="AutoShape 4"/>
            <p:cNvSpPr/>
            <p:nvPr/>
          </p:nvSpPr>
          <p:spPr>
            <a:xfrm rot="3261600">
              <a:off x="6044400" y="2566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5"/>
            <p:cNvSpPr/>
            <p:nvPr/>
          </p:nvSpPr>
          <p:spPr>
            <a:xfrm rot="4644000">
              <a:off x="6571080" y="145224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6"/>
            <p:cNvSpPr/>
            <p:nvPr/>
          </p:nvSpPr>
          <p:spPr>
            <a:xfrm rot="7293600">
              <a:off x="6057720" y="41356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7"/>
            <p:cNvSpPr/>
            <p:nvPr/>
          </p:nvSpPr>
          <p:spPr>
            <a:xfrm rot="5988000">
              <a:off x="6603480" y="28245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8"/>
            <p:cNvSpPr/>
            <p:nvPr/>
          </p:nvSpPr>
          <p:spPr>
            <a:xfrm rot="14237400">
              <a:off x="1356840" y="415188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9"/>
            <p:cNvSpPr/>
            <p:nvPr/>
          </p:nvSpPr>
          <p:spPr>
            <a:xfrm rot="15619800">
              <a:off x="893880" y="29458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10"/>
            <p:cNvSpPr/>
            <p:nvPr/>
          </p:nvSpPr>
          <p:spPr>
            <a:xfrm rot="16963200">
              <a:off x="930960" y="15573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11"/>
            <p:cNvSpPr/>
            <p:nvPr/>
          </p:nvSpPr>
          <p:spPr>
            <a:xfrm rot="18269400">
              <a:off x="1472040" y="2872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12"/>
            <p:cNvSpPr/>
            <p:nvPr/>
          </p:nvSpPr>
          <p:spPr>
            <a:xfrm>
              <a:off x="3277440" y="2057400"/>
              <a:ext cx="2818440" cy="28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WordArt 13"/>
            <p:cNvSpPr txBox="1"/>
            <p:nvPr/>
          </p:nvSpPr>
          <p:spPr>
            <a:xfrm>
              <a:off x="3734640" y="2514600"/>
              <a:ext cx="1780560" cy="180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42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43" name="WordArt 15"/>
          <p:cNvSpPr txBox="1"/>
          <p:nvPr/>
        </p:nvSpPr>
        <p:spPr>
          <a:xfrm>
            <a:off x="1692360" y="692280"/>
            <a:ext cx="75096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44" name="WordArt 16"/>
          <p:cNvSpPr txBox="1"/>
          <p:nvPr/>
        </p:nvSpPr>
        <p:spPr>
          <a:xfrm>
            <a:off x="1619280" y="5084640"/>
            <a:ext cx="6555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45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546" name="Group 18"/>
          <p:cNvGrpSpPr/>
          <p:nvPr/>
        </p:nvGrpSpPr>
        <p:grpSpPr>
          <a:xfrm>
            <a:off x="6400800" y="762120"/>
            <a:ext cx="1600200" cy="914400"/>
            <a:chOff x="6400800" y="762120"/>
            <a:chExt cx="1600200" cy="914400"/>
          </a:xfrm>
        </p:grpSpPr>
        <p:sp>
          <p:nvSpPr>
            <p:cNvPr id="547" name="WordArt 19"/>
            <p:cNvSpPr txBox="1"/>
            <p:nvPr/>
          </p:nvSpPr>
          <p:spPr>
            <a:xfrm>
              <a:off x="6400800" y="762120"/>
              <a:ext cx="59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48" name="WordArt 20"/>
            <p:cNvSpPr txBox="1"/>
            <p:nvPr/>
          </p:nvSpPr>
          <p:spPr>
            <a:xfrm>
              <a:off x="7086600" y="83844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49" name="Group 21"/>
          <p:cNvGrpSpPr/>
          <p:nvPr/>
        </p:nvGrpSpPr>
        <p:grpSpPr>
          <a:xfrm>
            <a:off x="6934320" y="2133720"/>
            <a:ext cx="1600200" cy="914400"/>
            <a:chOff x="6934320" y="2133720"/>
            <a:chExt cx="1600200" cy="914400"/>
          </a:xfrm>
        </p:grpSpPr>
        <p:sp>
          <p:nvSpPr>
            <p:cNvPr id="550" name="WordArt 22"/>
            <p:cNvSpPr txBox="1"/>
            <p:nvPr/>
          </p:nvSpPr>
          <p:spPr>
            <a:xfrm>
              <a:off x="6934320" y="2133720"/>
              <a:ext cx="595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51" name="WordArt 23"/>
            <p:cNvSpPr txBox="1"/>
            <p:nvPr/>
          </p:nvSpPr>
          <p:spPr>
            <a:xfrm>
              <a:off x="7620120" y="2209680"/>
              <a:ext cx="914400" cy="81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52" name="Group 24"/>
          <p:cNvGrpSpPr/>
          <p:nvPr/>
        </p:nvGrpSpPr>
        <p:grpSpPr>
          <a:xfrm>
            <a:off x="7010280" y="3505320"/>
            <a:ext cx="1600200" cy="914400"/>
            <a:chOff x="7010280" y="3505320"/>
            <a:chExt cx="1600200" cy="914400"/>
          </a:xfrm>
        </p:grpSpPr>
        <p:sp>
          <p:nvSpPr>
            <p:cNvPr id="553" name="WordArt 25"/>
            <p:cNvSpPr txBox="1"/>
            <p:nvPr/>
          </p:nvSpPr>
          <p:spPr>
            <a:xfrm>
              <a:off x="7010280" y="3657600"/>
              <a:ext cx="5950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k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54" name="WordArt 26"/>
            <p:cNvSpPr txBox="1"/>
            <p:nvPr/>
          </p:nvSpPr>
          <p:spPr>
            <a:xfrm>
              <a:off x="7696080" y="350532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55" name="Group 27"/>
          <p:cNvGrpSpPr/>
          <p:nvPr/>
        </p:nvGrpSpPr>
        <p:grpSpPr>
          <a:xfrm>
            <a:off x="6443640" y="4797360"/>
            <a:ext cx="1625400" cy="1143000"/>
            <a:chOff x="6443640" y="4797360"/>
            <a:chExt cx="1625400" cy="1143000"/>
          </a:xfrm>
        </p:grpSpPr>
        <p:sp>
          <p:nvSpPr>
            <p:cNvPr id="556" name="WordArt 28"/>
            <p:cNvSpPr txBox="1"/>
            <p:nvPr/>
          </p:nvSpPr>
          <p:spPr>
            <a:xfrm>
              <a:off x="6443640" y="4797360"/>
              <a:ext cx="28584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57" name="WordArt 29"/>
            <p:cNvSpPr txBox="1"/>
            <p:nvPr/>
          </p:nvSpPr>
          <p:spPr>
            <a:xfrm>
              <a:off x="6850080" y="5102280"/>
              <a:ext cx="121896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58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BA4A-65D6-417C-A93B-0975784C3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1" name="Group 3"/>
          <p:cNvGrpSpPr/>
          <p:nvPr/>
        </p:nvGrpSpPr>
        <p:grpSpPr>
          <a:xfrm>
            <a:off x="469440" y="7200"/>
            <a:ext cx="8461080" cy="6801120"/>
            <a:chOff x="469440" y="7200"/>
            <a:chExt cx="8461080" cy="6801120"/>
          </a:xfrm>
        </p:grpSpPr>
        <p:sp>
          <p:nvSpPr>
            <p:cNvPr id="562" name="AutoShape 4"/>
            <p:cNvSpPr/>
            <p:nvPr/>
          </p:nvSpPr>
          <p:spPr>
            <a:xfrm rot="3261600">
              <a:off x="6045480" y="255960"/>
              <a:ext cx="1861920" cy="2432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5"/>
            <p:cNvSpPr/>
            <p:nvPr/>
          </p:nvSpPr>
          <p:spPr>
            <a:xfrm rot="4644000">
              <a:off x="6609600" y="1465920"/>
              <a:ext cx="1862280" cy="2432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6"/>
            <p:cNvSpPr/>
            <p:nvPr/>
          </p:nvSpPr>
          <p:spPr>
            <a:xfrm rot="7293600">
              <a:off x="6059160" y="4134960"/>
              <a:ext cx="1931760" cy="242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7"/>
            <p:cNvSpPr/>
            <p:nvPr/>
          </p:nvSpPr>
          <p:spPr>
            <a:xfrm rot="5988000">
              <a:off x="6604920" y="2824200"/>
              <a:ext cx="1862280" cy="243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8"/>
            <p:cNvSpPr/>
            <p:nvPr/>
          </p:nvSpPr>
          <p:spPr>
            <a:xfrm rot="14237400">
              <a:off x="1357560" y="4151880"/>
              <a:ext cx="1862280" cy="243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utoShape 9"/>
            <p:cNvSpPr/>
            <p:nvPr/>
          </p:nvSpPr>
          <p:spPr>
            <a:xfrm rot="15619800">
              <a:off x="894240" y="2945520"/>
              <a:ext cx="1861920" cy="2432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10"/>
            <p:cNvSpPr/>
            <p:nvPr/>
          </p:nvSpPr>
          <p:spPr>
            <a:xfrm rot="16963200">
              <a:off x="931680" y="1556640"/>
              <a:ext cx="1862280" cy="243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11"/>
            <p:cNvSpPr/>
            <p:nvPr/>
          </p:nvSpPr>
          <p:spPr>
            <a:xfrm rot="18269400">
              <a:off x="1473120" y="287280"/>
              <a:ext cx="1931760" cy="242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2"/>
            <p:cNvSpPr/>
            <p:nvPr/>
          </p:nvSpPr>
          <p:spPr>
            <a:xfrm>
              <a:off x="3278160" y="2057400"/>
              <a:ext cx="2819160" cy="28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WordArt 13"/>
            <p:cNvSpPr txBox="1"/>
            <p:nvPr/>
          </p:nvSpPr>
          <p:spPr>
            <a:xfrm>
              <a:off x="3735360" y="2514600"/>
              <a:ext cx="1780920" cy="180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72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3" name="WordArt 15"/>
          <p:cNvSpPr txBox="1"/>
          <p:nvPr/>
        </p:nvSpPr>
        <p:spPr>
          <a:xfrm>
            <a:off x="1676520" y="7174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4" name="WordArt 16"/>
          <p:cNvSpPr txBox="1"/>
          <p:nvPr/>
        </p:nvSpPr>
        <p:spPr>
          <a:xfrm>
            <a:off x="1447920" y="5029200"/>
            <a:ext cx="76176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5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576" name="Group 18"/>
          <p:cNvGrpSpPr/>
          <p:nvPr/>
        </p:nvGrpSpPr>
        <p:grpSpPr>
          <a:xfrm>
            <a:off x="6553080" y="838080"/>
            <a:ext cx="1524240" cy="914400"/>
            <a:chOff x="6553080" y="838080"/>
            <a:chExt cx="1524240" cy="914400"/>
          </a:xfrm>
        </p:grpSpPr>
        <p:sp>
          <p:nvSpPr>
            <p:cNvPr id="577" name="WordArt 19"/>
            <p:cNvSpPr txBox="1"/>
            <p:nvPr/>
          </p:nvSpPr>
          <p:spPr>
            <a:xfrm>
              <a:off x="6553080" y="838080"/>
              <a:ext cx="5335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78" name="WordArt 20"/>
            <p:cNvSpPr txBox="1"/>
            <p:nvPr/>
          </p:nvSpPr>
          <p:spPr>
            <a:xfrm>
              <a:off x="7162920" y="91440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79" name="Group 21"/>
          <p:cNvGrpSpPr/>
          <p:nvPr/>
        </p:nvGrpSpPr>
        <p:grpSpPr>
          <a:xfrm>
            <a:off x="7010280" y="1981080"/>
            <a:ext cx="1600200" cy="1143000"/>
            <a:chOff x="7010280" y="1981080"/>
            <a:chExt cx="1600200" cy="1143000"/>
          </a:xfrm>
        </p:grpSpPr>
        <p:sp>
          <p:nvSpPr>
            <p:cNvPr id="580" name="WordArt 22"/>
            <p:cNvSpPr txBox="1"/>
            <p:nvPr/>
          </p:nvSpPr>
          <p:spPr>
            <a:xfrm>
              <a:off x="7010280" y="2209680"/>
              <a:ext cx="6098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81" name="WordArt 23"/>
            <p:cNvSpPr txBox="1"/>
            <p:nvPr/>
          </p:nvSpPr>
          <p:spPr>
            <a:xfrm>
              <a:off x="7696080" y="1981080"/>
              <a:ext cx="9144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82" name="Group 24"/>
          <p:cNvGrpSpPr/>
          <p:nvPr/>
        </p:nvGrpSpPr>
        <p:grpSpPr>
          <a:xfrm>
            <a:off x="7010280" y="3429000"/>
            <a:ext cx="1600200" cy="990720"/>
            <a:chOff x="7010280" y="3429000"/>
            <a:chExt cx="1600200" cy="990720"/>
          </a:xfrm>
        </p:grpSpPr>
        <p:sp>
          <p:nvSpPr>
            <p:cNvPr id="583" name="WordArt 25"/>
            <p:cNvSpPr txBox="1"/>
            <p:nvPr/>
          </p:nvSpPr>
          <p:spPr>
            <a:xfrm>
              <a:off x="7010280" y="3657600"/>
              <a:ext cx="595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m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84" name="WordArt 26"/>
            <p:cNvSpPr txBox="1"/>
            <p:nvPr/>
          </p:nvSpPr>
          <p:spPr>
            <a:xfrm>
              <a:off x="7696080" y="3429000"/>
              <a:ext cx="9144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85" name="Group 27"/>
          <p:cNvGrpSpPr/>
          <p:nvPr/>
        </p:nvGrpSpPr>
        <p:grpSpPr>
          <a:xfrm>
            <a:off x="6477120" y="4876920"/>
            <a:ext cx="1600200" cy="1066680"/>
            <a:chOff x="6477120" y="4876920"/>
            <a:chExt cx="1600200" cy="1066680"/>
          </a:xfrm>
        </p:grpSpPr>
        <p:sp>
          <p:nvSpPr>
            <p:cNvPr id="586" name="WordArt 28"/>
            <p:cNvSpPr txBox="1"/>
            <p:nvPr/>
          </p:nvSpPr>
          <p:spPr>
            <a:xfrm>
              <a:off x="6477120" y="4876920"/>
              <a:ext cx="6858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87" name="WordArt 29"/>
            <p:cNvSpPr txBox="1"/>
            <p:nvPr/>
          </p:nvSpPr>
          <p:spPr>
            <a:xfrm>
              <a:off x="7162920" y="502920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88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E608-F5F3-4D45-B5A2-8A39C7620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1" name="Group 3"/>
          <p:cNvGrpSpPr/>
          <p:nvPr/>
        </p:nvGrpSpPr>
        <p:grpSpPr>
          <a:xfrm>
            <a:off x="469080" y="7560"/>
            <a:ext cx="8424360" cy="6800400"/>
            <a:chOff x="469080" y="7560"/>
            <a:chExt cx="8424360" cy="6800400"/>
          </a:xfrm>
        </p:grpSpPr>
        <p:sp>
          <p:nvSpPr>
            <p:cNvPr id="592" name="AutoShape 4"/>
            <p:cNvSpPr/>
            <p:nvPr/>
          </p:nvSpPr>
          <p:spPr>
            <a:xfrm rot="3261600">
              <a:off x="6044400" y="2566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 rot="4644000">
              <a:off x="6571080" y="145224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6"/>
            <p:cNvSpPr/>
            <p:nvPr/>
          </p:nvSpPr>
          <p:spPr>
            <a:xfrm rot="7293600">
              <a:off x="6057720" y="41356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7"/>
            <p:cNvSpPr/>
            <p:nvPr/>
          </p:nvSpPr>
          <p:spPr>
            <a:xfrm rot="5988000">
              <a:off x="6603480" y="28245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8"/>
            <p:cNvSpPr/>
            <p:nvPr/>
          </p:nvSpPr>
          <p:spPr>
            <a:xfrm rot="14237400">
              <a:off x="1356840" y="415188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 rot="15619800">
              <a:off x="893880" y="29458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 rot="16963200">
              <a:off x="930960" y="15573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11"/>
            <p:cNvSpPr/>
            <p:nvPr/>
          </p:nvSpPr>
          <p:spPr>
            <a:xfrm rot="18269400">
              <a:off x="1472040" y="2872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2"/>
            <p:cNvSpPr/>
            <p:nvPr/>
          </p:nvSpPr>
          <p:spPr>
            <a:xfrm>
              <a:off x="3277440" y="2057400"/>
              <a:ext cx="2818440" cy="28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WordArt 13"/>
            <p:cNvSpPr txBox="1"/>
            <p:nvPr/>
          </p:nvSpPr>
          <p:spPr>
            <a:xfrm>
              <a:off x="3734640" y="2514600"/>
              <a:ext cx="1780560" cy="180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602" name="WordArt 14"/>
          <p:cNvSpPr txBox="1"/>
          <p:nvPr/>
        </p:nvSpPr>
        <p:spPr>
          <a:xfrm>
            <a:off x="1258920" y="2133720"/>
            <a:ext cx="56988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603" name="WordArt 15"/>
          <p:cNvSpPr txBox="1"/>
          <p:nvPr/>
        </p:nvSpPr>
        <p:spPr>
          <a:xfrm>
            <a:off x="1600200" y="685800"/>
            <a:ext cx="9144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604" name="WordArt 16"/>
          <p:cNvSpPr txBox="1"/>
          <p:nvPr/>
        </p:nvSpPr>
        <p:spPr>
          <a:xfrm>
            <a:off x="1981080" y="5105520"/>
            <a:ext cx="533520" cy="98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605" name="WordArt 17"/>
          <p:cNvSpPr txBox="1"/>
          <p:nvPr/>
        </p:nvSpPr>
        <p:spPr>
          <a:xfrm>
            <a:off x="914400" y="3689280"/>
            <a:ext cx="99072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606" name="Group 18"/>
          <p:cNvGrpSpPr/>
          <p:nvPr/>
        </p:nvGrpSpPr>
        <p:grpSpPr>
          <a:xfrm>
            <a:off x="6553080" y="762120"/>
            <a:ext cx="1447920" cy="914400"/>
            <a:chOff x="6553080" y="762120"/>
            <a:chExt cx="1447920" cy="914400"/>
          </a:xfrm>
        </p:grpSpPr>
        <p:sp>
          <p:nvSpPr>
            <p:cNvPr id="607" name="WordArt 19"/>
            <p:cNvSpPr txBox="1"/>
            <p:nvPr/>
          </p:nvSpPr>
          <p:spPr>
            <a:xfrm>
              <a:off x="6553080" y="762120"/>
              <a:ext cx="762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08" name="WordArt 20"/>
            <p:cNvSpPr txBox="1"/>
            <p:nvPr/>
          </p:nvSpPr>
          <p:spPr>
            <a:xfrm>
              <a:off x="7391520" y="9144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609" name="Group 21"/>
          <p:cNvGrpSpPr/>
          <p:nvPr/>
        </p:nvGrpSpPr>
        <p:grpSpPr>
          <a:xfrm>
            <a:off x="7093080" y="2133720"/>
            <a:ext cx="1439280" cy="914400"/>
            <a:chOff x="7093080" y="2133720"/>
            <a:chExt cx="1439280" cy="914400"/>
          </a:xfrm>
        </p:grpSpPr>
        <p:sp>
          <p:nvSpPr>
            <p:cNvPr id="610" name="WordArt 22"/>
            <p:cNvSpPr txBox="1"/>
            <p:nvPr/>
          </p:nvSpPr>
          <p:spPr>
            <a:xfrm>
              <a:off x="7093080" y="2133720"/>
              <a:ext cx="757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11" name="WordArt 23"/>
            <p:cNvSpPr txBox="1"/>
            <p:nvPr/>
          </p:nvSpPr>
          <p:spPr>
            <a:xfrm>
              <a:off x="7926120" y="2286000"/>
              <a:ext cx="60624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612" name="Group 24"/>
          <p:cNvGrpSpPr/>
          <p:nvPr/>
        </p:nvGrpSpPr>
        <p:grpSpPr>
          <a:xfrm>
            <a:off x="7086600" y="3505320"/>
            <a:ext cx="1523880" cy="914400"/>
            <a:chOff x="7086600" y="3505320"/>
            <a:chExt cx="1523880" cy="914400"/>
          </a:xfrm>
        </p:grpSpPr>
        <p:sp>
          <p:nvSpPr>
            <p:cNvPr id="613" name="WordArt 25"/>
            <p:cNvSpPr txBox="1"/>
            <p:nvPr/>
          </p:nvSpPr>
          <p:spPr>
            <a:xfrm>
              <a:off x="7086600" y="3505320"/>
              <a:ext cx="838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s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14" name="WordArt 26"/>
            <p:cNvSpPr txBox="1"/>
            <p:nvPr/>
          </p:nvSpPr>
          <p:spPr>
            <a:xfrm>
              <a:off x="8001000" y="36576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615" name="Group 27"/>
          <p:cNvGrpSpPr/>
          <p:nvPr/>
        </p:nvGrpSpPr>
        <p:grpSpPr>
          <a:xfrm>
            <a:off x="6858000" y="5029200"/>
            <a:ext cx="1143000" cy="990720"/>
            <a:chOff x="6858000" y="5029200"/>
            <a:chExt cx="1143000" cy="990720"/>
          </a:xfrm>
        </p:grpSpPr>
        <p:sp>
          <p:nvSpPr>
            <p:cNvPr id="616" name="WordArt 28"/>
            <p:cNvSpPr txBox="1"/>
            <p:nvPr/>
          </p:nvSpPr>
          <p:spPr>
            <a:xfrm>
              <a:off x="6858000" y="5257800"/>
              <a:ext cx="3808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17" name="WordArt 29"/>
            <p:cNvSpPr txBox="1"/>
            <p:nvPr/>
          </p:nvSpPr>
          <p:spPr>
            <a:xfrm>
              <a:off x="7315200" y="5029200"/>
              <a:ext cx="6858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618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C43A-F79B-4028-8777-A80D3A21F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4" descr="ai4"/>
          <p:cNvPicPr/>
          <p:nvPr/>
        </p:nvPicPr>
        <p:blipFill>
          <a:blip r:embed="rId1"/>
          <a:stretch/>
        </p:blipFill>
        <p:spPr>
          <a:xfrm>
            <a:off x="2916360" y="333360"/>
            <a:ext cx="3487680" cy="5357880"/>
          </a:xfrm>
          <a:prstGeom prst="rect">
            <a:avLst/>
          </a:prstGeom>
          <a:ln w="0">
            <a:noFill/>
          </a:ln>
        </p:spPr>
      </p:pic>
      <p:sp>
        <p:nvSpPr>
          <p:cNvPr id="62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9F99-97C2-4D60-A284-0321E1491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ai5"/>
          <p:cNvPicPr/>
          <p:nvPr/>
        </p:nvPicPr>
        <p:blipFill>
          <a:blip r:embed="rId1"/>
          <a:stretch/>
        </p:blipFill>
        <p:spPr>
          <a:xfrm>
            <a:off x="2771640" y="404640"/>
            <a:ext cx="3649680" cy="5381640"/>
          </a:xfrm>
          <a:prstGeom prst="rect">
            <a:avLst/>
          </a:prstGeom>
          <a:ln w="0">
            <a:noFill/>
          </a:ln>
        </p:spPr>
      </p:pic>
      <p:sp>
        <p:nvSpPr>
          <p:cNvPr id="62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26A0-778F-492D-BBCE-A4779A9E2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4" descr="ai6"/>
          <p:cNvPicPr/>
          <p:nvPr/>
        </p:nvPicPr>
        <p:blipFill>
          <a:blip r:embed="rId1"/>
          <a:stretch/>
        </p:blipFill>
        <p:spPr>
          <a:xfrm>
            <a:off x="2627280" y="404640"/>
            <a:ext cx="3941640" cy="5764320"/>
          </a:xfrm>
          <a:prstGeom prst="rect">
            <a:avLst/>
          </a:prstGeom>
          <a:ln w="0">
            <a:noFill/>
          </a:ln>
        </p:spPr>
      </p:pic>
      <p:sp>
        <p:nvSpPr>
          <p:cNvPr id="62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8165-CE01-467B-B5AE-644C50D09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4" descr="ai7"/>
          <p:cNvPicPr/>
          <p:nvPr/>
        </p:nvPicPr>
        <p:blipFill>
          <a:blip r:embed="rId1"/>
          <a:stretch/>
        </p:blipFill>
        <p:spPr>
          <a:xfrm>
            <a:off x="755640" y="766800"/>
            <a:ext cx="7777080" cy="5151240"/>
          </a:xfrm>
          <a:prstGeom prst="rect">
            <a:avLst/>
          </a:prstGeom>
          <a:ln w="0">
            <a:noFill/>
          </a:ln>
        </p:spPr>
      </p:pic>
      <p:sp>
        <p:nvSpPr>
          <p:cNvPr id="630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5D51-6943-4712-8427-D4743969B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9" descr="168_5795"/>
          <p:cNvPicPr/>
          <p:nvPr/>
        </p:nvPicPr>
        <p:blipFill>
          <a:blip r:embed="rId2"/>
          <a:stretch/>
        </p:blipFill>
        <p:spPr>
          <a:xfrm>
            <a:off x="1042920" y="2637000"/>
            <a:ext cx="5145120" cy="365256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10"/>
          <p:cNvSpPr/>
          <p:nvPr/>
        </p:nvSpPr>
        <p:spPr>
          <a:xfrm>
            <a:off x="2500560" y="620640"/>
            <a:ext cx="24786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en-US" sz="4800" spc="-1" strike="noStrike">
                <a:solidFill>
                  <a:srgbClr val="ff3300"/>
                </a:solidFill>
                <a:latin typeface="宋体"/>
              </a:rPr>
              <a:t>ái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   c</a:t>
            </a:r>
            <a:r>
              <a:rPr b="0" lang="en-US" sz="4800" spc="-1" strike="noStrike">
                <a:solidFill>
                  <a:srgbClr val="ff3300"/>
                </a:solidFill>
                <a:latin typeface="宋体"/>
              </a:rPr>
              <a:t>ài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白     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5919840" y="149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9708-6E8A-4F31-B89F-9FF032F6D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73806f722rfnycd"/>
          <p:cNvPicPr/>
          <p:nvPr/>
        </p:nvPicPr>
        <p:blipFill>
          <a:blip r:embed="rId2"/>
          <a:stretch/>
        </p:blipFill>
        <p:spPr>
          <a:xfrm>
            <a:off x="1979640" y="278136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3"/>
          <p:cNvSpPr/>
          <p:nvPr/>
        </p:nvSpPr>
        <p:spPr>
          <a:xfrm>
            <a:off x="2202480" y="649440"/>
            <a:ext cx="29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é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ɡ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u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玫       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B46B-E8D7-4718-AE21-9859644E9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3"/>
          <p:cNvSpPr/>
          <p:nvPr/>
        </p:nvSpPr>
        <p:spPr>
          <a:xfrm>
            <a:off x="1692360" y="220500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  <a:ea typeface="MS PGothic"/>
              </a:rPr>
              <a:t>a o e i u 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1763640" y="105264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单韵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1763640" y="350028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á  è  ǐ  ū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E930-D76C-45F1-830E-68453DF8A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20075180292"/>
          <p:cNvPicPr/>
          <p:nvPr/>
        </p:nvPicPr>
        <p:blipFill>
          <a:blip r:embed="rId2"/>
          <a:stretch/>
        </p:blipFill>
        <p:spPr>
          <a:xfrm>
            <a:off x="1476360" y="2708280"/>
            <a:ext cx="4317840" cy="353052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3"/>
          <p:cNvSpPr/>
          <p:nvPr/>
        </p:nvSpPr>
        <p:spPr>
          <a:xfrm>
            <a:off x="2370600" y="620640"/>
            <a:ext cx="261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ē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z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杯      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3F42-9072-40BF-A8D1-EA8570702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8"/>
          <p:cNvSpPr/>
          <p:nvPr/>
        </p:nvSpPr>
        <p:spPr>
          <a:xfrm>
            <a:off x="2282760" y="1401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0" descr="20051475036753"/>
          <p:cNvPicPr/>
          <p:nvPr/>
        </p:nvPicPr>
        <p:blipFill>
          <a:blip r:embed="rId2"/>
          <a:stretch/>
        </p:blipFill>
        <p:spPr>
          <a:xfrm>
            <a:off x="1763640" y="2708280"/>
            <a:ext cx="3960720" cy="342900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11"/>
          <p:cNvSpPr/>
          <p:nvPr/>
        </p:nvSpPr>
        <p:spPr>
          <a:xfrm>
            <a:off x="2508120" y="636480"/>
            <a:ext cx="2279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è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z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被     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6D9C-2B92-4141-838D-D4A6C4042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4"/>
          <p:cNvSpPr/>
          <p:nvPr/>
        </p:nvSpPr>
        <p:spPr>
          <a:xfrm>
            <a:off x="2339640" y="620640"/>
            <a:ext cx="2684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à     h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大       海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" descr="zyqlovestory,20070707123315855"/>
          <p:cNvPicPr/>
          <p:nvPr/>
        </p:nvPicPr>
        <p:blipFill>
          <a:blip r:embed="rId2"/>
          <a:stretch/>
        </p:blipFill>
        <p:spPr>
          <a:xfrm>
            <a:off x="539640" y="2565360"/>
            <a:ext cx="6193080" cy="3743280"/>
          </a:xfrm>
          <a:prstGeom prst="rect">
            <a:avLst/>
          </a:prstGeom>
          <a:ln w="0">
            <a:noFill/>
          </a:ln>
        </p:spPr>
      </p:pic>
      <p:sp>
        <p:nvSpPr>
          <p:cNvPr id="65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43A2-5214-4B13-85E4-7FD35F6B8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5" descr="haigui2_002"/>
          <p:cNvPicPr/>
          <p:nvPr/>
        </p:nvPicPr>
        <p:blipFill>
          <a:blip r:embed="rId2"/>
          <a:stretch/>
        </p:blipFill>
        <p:spPr>
          <a:xfrm>
            <a:off x="539640" y="2565360"/>
            <a:ext cx="6193080" cy="374328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6"/>
          <p:cNvSpPr/>
          <p:nvPr/>
        </p:nvSpPr>
        <p:spPr>
          <a:xfrm>
            <a:off x="2310120" y="620640"/>
            <a:ext cx="268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ɡ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ī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海     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AB95-765B-46C6-9BA6-674DF8DEB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964300221847"/>
          <p:cNvPicPr/>
          <p:nvPr/>
        </p:nvPicPr>
        <p:blipFill>
          <a:blip r:embed="rId2"/>
          <a:stretch/>
        </p:blipFill>
        <p:spPr>
          <a:xfrm>
            <a:off x="539640" y="2565360"/>
            <a:ext cx="6193080" cy="385452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5"/>
          <p:cNvSpPr/>
          <p:nvPr/>
        </p:nvSpPr>
        <p:spPr>
          <a:xfrm>
            <a:off x="2397960" y="620640"/>
            <a:ext cx="231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ē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j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飞     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2852-85D8-4E3F-B9C9-0BCCFF59F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5" descr="200610822521553377"/>
          <p:cNvPicPr/>
          <p:nvPr/>
        </p:nvPicPr>
        <p:blipFill>
          <a:blip r:embed="rId2"/>
          <a:stretch/>
        </p:blipFill>
        <p:spPr>
          <a:xfrm>
            <a:off x="539640" y="2492280"/>
            <a:ext cx="6264360" cy="392292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6"/>
          <p:cNvSpPr/>
          <p:nvPr/>
        </p:nvSpPr>
        <p:spPr>
          <a:xfrm>
            <a:off x="2185560" y="620640"/>
            <a:ext cx="2854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éi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hu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梅      花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F993-336A-440A-A2A1-08311E018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4" descr="016p"/>
          <p:cNvPicPr/>
          <p:nvPr/>
        </p:nvPicPr>
        <p:blipFill>
          <a:blip r:embed="rId2"/>
          <a:stretch/>
        </p:blipFill>
        <p:spPr>
          <a:xfrm>
            <a:off x="1403280" y="2565360"/>
            <a:ext cx="4464000" cy="375120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6"/>
          <p:cNvSpPr/>
          <p:nvPr/>
        </p:nvSpPr>
        <p:spPr>
          <a:xfrm>
            <a:off x="2491200" y="549360"/>
            <a:ext cx="263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ài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  shǔ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袋   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9AF5-B3A9-46AF-BE23-A9FF8EA16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3" descr="butterfly1"/>
          <p:cNvPicPr/>
          <p:nvPr/>
        </p:nvPicPr>
        <p:blipFill>
          <a:blip r:embed="rId2"/>
          <a:stretch/>
        </p:blipFill>
        <p:spPr>
          <a:xfrm>
            <a:off x="900000" y="4149720"/>
            <a:ext cx="1524240" cy="14349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4" descr="butterfly1"/>
          <p:cNvPicPr/>
          <p:nvPr/>
        </p:nvPicPr>
        <p:blipFill>
          <a:blip r:embed="rId3"/>
          <a:stretch/>
        </p:blipFill>
        <p:spPr>
          <a:xfrm>
            <a:off x="2268360" y="4724280"/>
            <a:ext cx="1219320" cy="114804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684360" y="1125360"/>
            <a:ext cx="7416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ái ɡē      dài shǔ    mǎi cà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á bēi    huà méi   wěi b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uíjīn     hē shuǐ    pái du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46C9-971A-41A3-A05D-535BC48CF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4"/>
          <p:cNvSpPr/>
          <p:nvPr/>
        </p:nvSpPr>
        <p:spPr>
          <a:xfrm>
            <a:off x="2334240" y="5751360"/>
            <a:ext cx="111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āi sh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栽  树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839400" y="5751360"/>
            <a:ext cx="9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éi t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培  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7"/>
          <p:cNvSpPr/>
          <p:nvPr/>
        </p:nvSpPr>
        <p:spPr>
          <a:xfrm>
            <a:off x="5238720" y="5734080"/>
            <a:ext cx="134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í shu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提 水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898560" y="46656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ā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shù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é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t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ǒ  qù  tí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u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栽    树  ，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培   土 ， 我   去  提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9C60-372E-40BB-9B18-01A259DAB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4" descr="W020070323694530889248"/>
          <p:cNvPicPr/>
          <p:nvPr/>
        </p:nvPicPr>
        <p:blipFill>
          <a:blip r:embed="rId1"/>
          <a:srcRect l="14433" t="19520" r="10867" b="24384"/>
          <a:stretch/>
        </p:blipFill>
        <p:spPr>
          <a:xfrm>
            <a:off x="-36360" y="0"/>
            <a:ext cx="9432720" cy="566100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6"/>
          <p:cNvSpPr/>
          <p:nvPr/>
        </p:nvSpPr>
        <p:spPr>
          <a:xfrm>
            <a:off x="826920" y="582948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（    ），他（    ），我（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66B7-A965-4EBF-93E3-F176DA001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C:\Documents and Settings\dell\桌面\12.jpg"/>
          <p:cNvPicPr/>
          <p:nvPr/>
        </p:nvPicPr>
        <p:blipFill>
          <a:blip r:embed="rId1"/>
          <a:stretch/>
        </p:blipFill>
        <p:spPr>
          <a:xfrm>
            <a:off x="0" y="0"/>
            <a:ext cx="9131400" cy="4214880"/>
          </a:xfrm>
          <a:prstGeom prst="rect">
            <a:avLst/>
          </a:prstGeom>
          <a:ln w="0">
            <a:noFill/>
          </a:ln>
        </p:spPr>
      </p:pic>
      <p:sp>
        <p:nvSpPr>
          <p:cNvPr id="466" name="TextBox 2"/>
          <p:cNvSpPr/>
          <p:nvPr/>
        </p:nvSpPr>
        <p:spPr>
          <a:xfrm>
            <a:off x="395280" y="907920"/>
            <a:ext cx="407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单韵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3"/>
          <p:cNvSpPr/>
          <p:nvPr/>
        </p:nvSpPr>
        <p:spPr>
          <a:xfrm>
            <a:off x="5435640" y="981000"/>
            <a:ext cx="37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复韵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2557440" y="407664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3752280" y="406728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1787400" y="5373720"/>
            <a:ext cx="40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2702160" y="522936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2"/>
          <p:cNvSpPr/>
          <p:nvPr/>
        </p:nvSpPr>
        <p:spPr>
          <a:xfrm>
            <a:off x="3853080" y="522936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Arial"/>
              </a:rPr>
              <a:t>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3"/>
          <p:cNvSpPr/>
          <p:nvPr/>
        </p:nvSpPr>
        <p:spPr>
          <a:xfrm>
            <a:off x="1439640" y="392904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A771-524D-4A6B-A5D2-59FEF6A36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77" name="Group 3"/>
          <p:cNvGrpSpPr/>
          <p:nvPr/>
        </p:nvGrpSpPr>
        <p:grpSpPr>
          <a:xfrm>
            <a:off x="4140360" y="2205000"/>
            <a:ext cx="4176360" cy="1584000"/>
            <a:chOff x="4140360" y="2205000"/>
            <a:chExt cx="4176360" cy="1584000"/>
          </a:xfrm>
        </p:grpSpPr>
        <p:sp>
          <p:nvSpPr>
            <p:cNvPr id="478" name="WordArt 4"/>
            <p:cNvSpPr txBox="1"/>
            <p:nvPr/>
          </p:nvSpPr>
          <p:spPr>
            <a:xfrm>
              <a:off x="4140360" y="2205000"/>
              <a:ext cx="991080" cy="15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79" name="WordArt 5"/>
            <p:cNvSpPr txBox="1"/>
            <p:nvPr/>
          </p:nvSpPr>
          <p:spPr>
            <a:xfrm>
              <a:off x="7325640" y="2205000"/>
              <a:ext cx="991080" cy="15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80" name="WordArt 6"/>
            <p:cNvSpPr txBox="1"/>
            <p:nvPr/>
          </p:nvSpPr>
          <p:spPr>
            <a:xfrm>
              <a:off x="5768640" y="2205000"/>
              <a:ext cx="990720" cy="15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481" name="WordArt 7"/>
          <p:cNvSpPr txBox="1"/>
          <p:nvPr/>
        </p:nvSpPr>
        <p:spPr>
          <a:xfrm>
            <a:off x="826920" y="2205000"/>
            <a:ext cx="259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宋体"/>
              </a:rPr>
              <a:t>复韵母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468360" y="54936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拼音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0228-0B5B-4D76-99B2-EC532587A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bb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WordArt 4"/>
          <p:cNvSpPr txBox="1"/>
          <p:nvPr/>
        </p:nvSpPr>
        <p:spPr>
          <a:xfrm>
            <a:off x="5257800" y="1295280"/>
            <a:ext cx="17812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ɑ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487" name="Group 5"/>
          <p:cNvGrpSpPr/>
          <p:nvPr/>
        </p:nvGrpSpPr>
        <p:grpSpPr>
          <a:xfrm>
            <a:off x="4211640" y="4076640"/>
            <a:ext cx="4648320" cy="895320"/>
            <a:chOff x="4211640" y="4076640"/>
            <a:chExt cx="4648320" cy="895320"/>
          </a:xfrm>
        </p:grpSpPr>
        <p:sp>
          <p:nvSpPr>
            <p:cNvPr id="488" name="WordArt 6"/>
            <p:cNvSpPr txBox="1"/>
            <p:nvPr/>
          </p:nvSpPr>
          <p:spPr>
            <a:xfrm>
              <a:off x="4211640" y="407664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ā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89" name="WordArt 7"/>
            <p:cNvSpPr txBox="1"/>
            <p:nvPr/>
          </p:nvSpPr>
          <p:spPr>
            <a:xfrm>
              <a:off x="5507280" y="407664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á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0" name="WordArt 8"/>
            <p:cNvSpPr txBox="1"/>
            <p:nvPr/>
          </p:nvSpPr>
          <p:spPr>
            <a:xfrm>
              <a:off x="6802560" y="407664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ǎ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1" name="WordArt 9"/>
            <p:cNvSpPr txBox="1"/>
            <p:nvPr/>
          </p:nvSpPr>
          <p:spPr>
            <a:xfrm>
              <a:off x="8097840" y="407664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à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492" name="Text Box 10"/>
          <p:cNvSpPr/>
          <p:nvPr/>
        </p:nvSpPr>
        <p:spPr>
          <a:xfrm>
            <a:off x="4859280" y="357336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6D00-AF72-4B1E-8FF6-9F490C842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WordArt 3"/>
          <p:cNvSpPr txBox="1"/>
          <p:nvPr/>
        </p:nvSpPr>
        <p:spPr>
          <a:xfrm>
            <a:off x="5562720" y="1371600"/>
            <a:ext cx="178092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e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4284720" y="4005360"/>
            <a:ext cx="4647960" cy="895320"/>
            <a:chOff x="4284720" y="4005360"/>
            <a:chExt cx="4647960" cy="895320"/>
          </a:xfrm>
        </p:grpSpPr>
        <p:sp>
          <p:nvSpPr>
            <p:cNvPr id="497" name="WordArt 5"/>
            <p:cNvSpPr txBox="1"/>
            <p:nvPr/>
          </p:nvSpPr>
          <p:spPr>
            <a:xfrm>
              <a:off x="428472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ē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8" name="WordArt 6"/>
            <p:cNvSpPr txBox="1"/>
            <p:nvPr/>
          </p:nvSpPr>
          <p:spPr>
            <a:xfrm>
              <a:off x="558000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é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9" name="WordArt 7"/>
            <p:cNvSpPr txBox="1"/>
            <p:nvPr/>
          </p:nvSpPr>
          <p:spPr>
            <a:xfrm>
              <a:off x="687528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ě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00" name="WordArt 8"/>
            <p:cNvSpPr txBox="1"/>
            <p:nvPr/>
          </p:nvSpPr>
          <p:spPr>
            <a:xfrm>
              <a:off x="817092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è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pic>
        <p:nvPicPr>
          <p:cNvPr id="501" name="Picture 12" descr="e57b0565-c5b2-444d-9e93-ecfe79fd6f75"/>
          <p:cNvPicPr/>
          <p:nvPr/>
        </p:nvPicPr>
        <p:blipFill>
          <a:blip r:embed="rId2"/>
          <a:stretch/>
        </p:blipFill>
        <p:spPr>
          <a:xfrm>
            <a:off x="0" y="404640"/>
            <a:ext cx="4067280" cy="5400720"/>
          </a:xfrm>
          <a:prstGeom prst="rect">
            <a:avLst/>
          </a:prstGeom>
          <a:ln w="0">
            <a:noFill/>
          </a:ln>
        </p:spPr>
      </p:pic>
      <p:pic>
        <p:nvPicPr>
          <p:cNvPr id="502" name="拔萝卜.mp3" descr=""/>
          <p:cNvPicPr/>
          <p:nvPr/>
        </p:nvPicPr>
        <p:blipFill>
          <a:blip r:embed="rId3"/>
          <a:stretch/>
        </p:blipFill>
        <p:spPr>
          <a:xfrm>
            <a:off x="183528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03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2A5C-4B3B-4489-B2E5-6AEA34994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17421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25279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WordArt 3"/>
          <p:cNvSpPr txBox="1"/>
          <p:nvPr/>
        </p:nvSpPr>
        <p:spPr>
          <a:xfrm>
            <a:off x="5638680" y="1295280"/>
            <a:ext cx="17812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u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4211640" y="4005360"/>
            <a:ext cx="4647960" cy="895320"/>
            <a:chOff x="4211640" y="4005360"/>
            <a:chExt cx="4647960" cy="895320"/>
          </a:xfrm>
        </p:grpSpPr>
        <p:sp>
          <p:nvSpPr>
            <p:cNvPr id="509" name="WordArt 5"/>
            <p:cNvSpPr txBox="1"/>
            <p:nvPr/>
          </p:nvSpPr>
          <p:spPr>
            <a:xfrm>
              <a:off x="421164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ī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10" name="WordArt 6"/>
            <p:cNvSpPr txBox="1"/>
            <p:nvPr/>
          </p:nvSpPr>
          <p:spPr>
            <a:xfrm>
              <a:off x="550692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í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11" name="WordArt 7"/>
            <p:cNvSpPr txBox="1"/>
            <p:nvPr/>
          </p:nvSpPr>
          <p:spPr>
            <a:xfrm>
              <a:off x="680220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ǐ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12" name="WordArt 8"/>
            <p:cNvSpPr txBox="1"/>
            <p:nvPr/>
          </p:nvSpPr>
          <p:spPr>
            <a:xfrm>
              <a:off x="809784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ì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pic>
        <p:nvPicPr>
          <p:cNvPr id="513" name="Picture 9" descr="c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40A8-CEF3-44E0-B514-D19896ACB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1" descr="666666"/>
          <p:cNvPicPr/>
          <p:nvPr/>
        </p:nvPicPr>
        <p:blipFill>
          <a:blip r:embed="rId1"/>
          <a:stretch/>
        </p:blipFill>
        <p:spPr>
          <a:xfrm>
            <a:off x="-609480" y="-171360"/>
            <a:ext cx="9753480" cy="7029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12"/>
          <p:cNvSpPr/>
          <p:nvPr/>
        </p:nvSpPr>
        <p:spPr>
          <a:xfrm>
            <a:off x="3551040" y="1557360"/>
            <a:ext cx="6523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bái t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 白  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bái tù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chuān pí 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白  兔 ， 穿   皮 袄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ěr duo chánɡ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wěi bɑ xi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耳 朵    长  ， 尾  巴  小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sān bàn zuǐ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hú  z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q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瓣  嘴 ， 胡  子   翘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yí dòng yí dòng zǒng zài x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一  动  一  动   总  在  笑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9230-7CA0-425E-95F1-724127822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4" descr="666666"/>
          <p:cNvPicPr/>
          <p:nvPr/>
        </p:nvPicPr>
        <p:blipFill>
          <a:blip r:embed="rId1"/>
          <a:stretch/>
        </p:blipFill>
        <p:spPr>
          <a:xfrm>
            <a:off x="-324000" y="-136440"/>
            <a:ext cx="9649080" cy="723744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5"/>
          <p:cNvSpPr/>
          <p:nvPr/>
        </p:nvSpPr>
        <p:spPr>
          <a:xfrm>
            <a:off x="3708360" y="1125360"/>
            <a:ext cx="56516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á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t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白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á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tù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chuān pí 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白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兔 ， 穿   皮 袄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ěr duo chánɡ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wě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bɑ xi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耳 朵    长  ，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尾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巴  小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sān bàn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uǐ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hú  z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q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瓣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嘴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， 胡  子   翘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yí dòng yí dòng zǒng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à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x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一  动  一  动   总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在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笑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A0AD-B008-4C53-A39F-ADDA81DAB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20486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2:51:10Z</dcterms:created>
  <dc:creator/>
  <dc:description/>
  <cp:keywords/>
  <dc:language>en-US</dc:language>
  <cp:lastModifiedBy>User</cp:lastModifiedBy>
  <dcterms:modified xsi:type="dcterms:W3CDTF">2016-10-05T12:57:39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